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9.gif" ContentType="image/gif"/>
  <Override PartName="/ppt/media/image1.png" ContentType="image/png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8.wmf" ContentType="image/x-wmf"/>
  <Override PartName="/ppt/media/image10.gif" ContentType="image/gif"/>
  <Override PartName="/ppt/media/image11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1125-64F2-4E88-8996-3908A6FA40E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This is penny's slide show on gymna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A46-FA85-4B7B-A8FA-4E45BAC43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D42-7B04-49BA-B3A3-ED345616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A65-D0EC-448B-B970-BD9A4ABB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5E33-EEB8-4643-A703-BCC09EFF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50D-526C-4765-AA82-300A4927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225-21C1-448E-9227-CD0D0D6F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DA0-4685-4CFD-A5CB-0944207F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951-2CDF-4B65-B2A8-3C140182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DE92-CF34-4563-B181-506D5EAF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968F-514A-42D8-BFBA-3EF87C68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C16-E025-4EFE-942C-A4C2E5FF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922C-7B37-4400-8548-49777247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84B1-59D2-438E-BBEA-CD010A66A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2.gif"/><Relationship Id="rId7" Type="http://schemas.openxmlformats.org/officeDocument/2006/relationships/image" Target="../media/image10.gif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9280" y="1700280"/>
            <a:ext cx="849636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ccff99"/>
                    </a:gs>
                  </a:gsLst>
                  <a:lin ang="5400000"/>
                </a:gradFill>
                <a:latin typeface="Castellar"/>
              </a:rPr>
              <a:t>Gymnastic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ccff99"/>
                  </a:gs>
                </a:gsLst>
                <a:lin ang="5400000"/>
              </a:gradFill>
              <a:latin typeface="Castellar"/>
              <a:ea typeface="Castellar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Comic Sans MS"/>
              </a:rPr>
              <a:t>For 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00" y="40464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Before you star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916280"/>
            <a:ext cx="72741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First you need to make su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Your hair is tie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You are wearing suitable clot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No jewell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Comic Sans MS"/>
              </a:rPr>
              <a:t>No shoes or s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When you first start doing gymnastics training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Make sure you stret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Do this by doing lu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Then splits all w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Pike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Straddle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Shoulder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Back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Neck stre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1700280"/>
            <a:ext cx="316872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Then warm up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Do this by running up and down the 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Then sk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Sash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Side sash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Knees up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Kicking your bottom r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To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Comic Sans MS"/>
              </a:rPr>
              <a:t>Now that you have warmed up</a:t>
            </a:r>
            <a:br>
              <a:rPr sz="3600"/>
            </a:br>
            <a:r>
              <a:rPr b="0" lang="en-US" sz="3600" spc="-1" strike="noStrike">
                <a:solidFill>
                  <a:srgbClr val="66ff66"/>
                </a:solidFill>
                <a:latin typeface="Comic Sans MS"/>
              </a:rPr>
              <a:t>you should start doing some skills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Floor-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Cartwheel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Handsta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Round-off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Floor rou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Back fl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Backward and for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walk over'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1628640"/>
            <a:ext cx="252108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Comic Sans MS"/>
              </a:rPr>
              <a:t>Beam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Walking on your toes up and down the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Jumping along the bea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Handstand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Cartwheel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Split jumps and leap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Dismount and 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urns on one 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59640" y="2349360"/>
            <a:ext cx="158436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inued on nex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227640" y="5013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20000" y="5013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40720" y="50133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1763640" y="2276640"/>
            <a:ext cx="1440000" cy="137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932360" y="3645000"/>
            <a:ext cx="1839960" cy="785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Comic Sans MS"/>
              </a:rPr>
              <a:t>Now you have warmed up, you should start do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Vault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Running up and d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the vault str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Knees up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Kicking your bottom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To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Handsprin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Front layo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Front sa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Back flip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1557360"/>
            <a:ext cx="252072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ars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10 ca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5 stoop o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3 wrapa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ars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10 k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oe shoots off high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10 glide s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Routine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1557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124000" y="3500280"/>
            <a:ext cx="125748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Comic Sans MS"/>
              </a:rPr>
              <a:t>Sometimes, to get stronger, you do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l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Dish hold                                     L-hang hold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Dish rocks                                    leg li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V-snaps                                        tuck leg lif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Arch hold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am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Arch rocks                                   straddle wal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Prone                                            legs squ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Prone rocks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Front support                               ru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Rear support                                knees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rs</a:t>
            </a: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                                             kicking bot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Chin-ups                                       toe 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Chin-up pullovers                          chicken wal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Skin the cats                                bunny 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Comic Sans MS"/>
              </a:rPr>
              <a:t>Chin-up hold                                 spri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59640" y="981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659640" y="24210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659640" y="314172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659640" y="386064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659640" y="4581360"/>
            <a:ext cx="666720" cy="66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6659640" y="530064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6659640" y="6021360"/>
            <a:ext cx="66672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Competi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You need your                          What to do-          Go straight to your c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Hair tied back with hairspray            sit down with your c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Wearing your club leotard                 start warm up when its 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And you club tracksuit                       then go back to your coach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No jewellery                                      go to your first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Be there 15 minutes before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The competition starts                       You practice your routine first the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When you get there go                       compete. On vault you have to do tw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Straight to your coach                        competition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66"/>
                </a:solidFill>
                <a:latin typeface="Comic Sans MS"/>
              </a:rPr>
              <a:t>What you need to wear and how.            What you do when comp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3348000" y="4221000"/>
            <a:ext cx="432000" cy="43200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812000" y="4292280"/>
            <a:ext cx="216000" cy="431640"/>
          </a:xfrm>
          <a:prstGeom prst="line">
            <a:avLst/>
          </a:prstGeom>
          <a:ln w="9360">
            <a:solidFill>
              <a:srgbClr val="66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Just to let you know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When you do gymnastics your child or you can get 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Really bad injuries. That only happens if you don’t d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Properly or there is something wrong with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equipment your using. If something happens the c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Will be there to help, they can always call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Ambulance and if it is just a pain that keeps co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Back when you do gym, you can always go to a physio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Comic Sans MS"/>
              </a:rPr>
              <a:t>Thank-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Thank-you for reading my slide sh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I hope you learnt something n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I hope you know what to do at gymnastics 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I hope you enjoyed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And most of all I hope you have fun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Comic Sans MS"/>
              </a:rPr>
              <a:t>Gymnastics. I wan to see you at the Olympic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8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08:31:03Z</dcterms:created>
  <dc:creator>Heidi</dc:creator>
  <dc:description/>
  <dc:language>en-US</dc:language>
  <cp:lastModifiedBy>Heidi</cp:lastModifiedBy>
  <dcterms:modified xsi:type="dcterms:W3CDTF">2009-07-08T11:03:03Z</dcterms:modified>
  <cp:revision>8</cp:revision>
  <dc:subject/>
  <dc:title>Slide 1</dc:title>
</cp:coreProperties>
</file>